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ACA-128B-45F1-9558-C5EC4C0D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E312-F963-4DCC-99A4-E5AD23A15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66F3BDC-E639-4884-A095-320A77F95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79B9CEC-2F86-4777-BE83-B0A2D9CE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5A22795-D689-42EB-80C8-DCE140434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F1F6BA5-EBBA-4E9E-A3AF-1383FC83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FB9C6-FD63-4EE8-BE14-3B49CBF2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AEE152B-64DE-4896-A24C-AC1DBC999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69ED3EC-0D9B-457C-B27A-C30AD1E49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36F11F4-7829-4DFF-A393-937F0F861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927DCA-5F87-4F1D-95E2-CB5B59B71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AB5974-A28F-4228-AA19-FC21A398E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F62-04C0-4D21-9F91-6376B7312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E6DE7-9F11-4CCD-8AEC-EC5168BFF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459B609-8225-4293-B4EA-978043DEA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5A92D0E-D4CD-4EFE-92C7-4671D661F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54FDC47-FDD2-4C9B-9264-81315ECC9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C2C12FD-4F96-4229-B7D1-37B2AD324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14A578-1DAB-49A5-BB24-2D94D7B65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2AF3D77-6647-4B6F-84E6-06CA32C4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1522D63-434D-4655-8C7F-EE7FF670E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6404EF3-D8D6-42E0-BA29-6399AD5D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5947E63-BD25-4125-AD4D-C510119E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AA86-CFE1-45FB-9751-94FCD3763F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3236672-F551-468E-9125-24EA9508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84EA07-53B7-47E2-9278-7A5453943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41ED90-AEDF-41A7-ADAE-752A55FE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F02DB3-089E-4A96-BD0B-7B2AF169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4AB5C4-DC3E-43B5-9391-570A24C5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7D4CFC-0D9E-441D-919A-409BCD8A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42E0C-B7B5-46EB-A201-96AE8432B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2EBC0F-1F34-4AB5-A6C1-11D216925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197ED-006E-4BD4-A0CC-9A8E158F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78C7F1-C535-4502-AF78-E3AD34F7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7BD91-0A49-43DA-B0A1-DF9A6F735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D7E4DE-F8B8-4A8B-90B5-F50ADF331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EBE0F2-3615-428F-8A7A-B72BAFF2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DE18A-7282-4BE9-B46B-9E1F2CEAC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F4D31B3-EA97-4E0C-8FB6-5AF46E19C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14F3944-47EF-43C1-ADF8-14A6E16CD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10C23D9-0882-48D8-B9AA-9E991B895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742BECD-99E5-42D2-B770-6E8EA20A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10070EB-F05B-4040-B09E-BC90A255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643B232-792C-4AE8-B658-B37D86EE1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782977-1083-4487-B08C-FE0730E89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F0DB-70CD-46AB-BA8A-0DACD5DF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EEA7AA4-E110-42A6-8755-4EFE13146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F405E2D-BDC7-4780-8BD8-EA825351C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A48A50D-CD7C-4A4F-891D-3582F2DC1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CB531A-105F-4847-89D6-C85650B1E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131384-4A5E-4DF2-A301-537057F66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3F05-937C-4D41-94C4-6F1837AF9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94DA1-4092-43A7-8B26-F0F876A0A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FCF7-1F6F-4A22-9C8C-CA6DEC8EA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687E6-9E18-43E9-817E-8A46D8EBB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DCCDB-EC1B-4F8A-AE62-609917B39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973E-367F-4353-BA51-93A62C415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869E-4CAA-4E55-BBD0-B9FFD45A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31387-337B-472A-9461-A6F03CE71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5CED-605A-4A83-B2C6-412D5396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931BB-FEDB-460E-8394-5EC359F1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85EA-5A76-4B05-9135-2CBEE06FE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D0EB6-4BF3-4791-8D73-5F6CE11E9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7475A-3DBA-4B64-ABFE-E46CBABF2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6146D-BDCB-4248-B2C7-AB798356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D9215-07FC-4783-9070-9C21288B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55EFB-936D-4782-BEAF-6B2433D15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5993-42DD-4D14-989E-A23126C71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B9E9E2-A0E5-4981-A179-61297B7D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39590-D737-4D7C-B337-8438CE14D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63F488-FAD1-41F2-936B-68E46CD7E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CF28A-F270-4568-B906-CFBD5D30D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E1EB6-407E-42AC-A2AB-85F4278B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1BAA8A-CF40-4240-BC91-DC7A6FC3E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E50302-41B4-4663-A01A-4DF5F471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870D85-620E-4171-9FC3-65FA7459B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C90A8-C2C0-42BC-92D6-CEF870C78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53151-9313-4FAF-A3AA-F690752F7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8324-6AB2-47A0-BF50-0EADF251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CDFFB-C3F6-4B6F-A46E-E5B4D63EA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9C12E6-DFDC-4C38-BDFC-16945911A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CBD10F-44A6-42DD-8076-372FC8680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CDA0F-53CE-475C-97FE-A78C5B0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D4DFF-6B3A-4D89-8680-9FFEC2B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6F55D-264D-4EDF-B775-5DA30FC9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BD2A4-5A77-4A0F-AAD1-38D5468F1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8F742-319A-40E5-B38B-D6D97877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817D04-028A-4BB0-AE77-C786D1EAF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CBF7F-4A3C-4C1F-B90C-27A922092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0F544-A067-46C3-9D6E-0E0BD7FF4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46EE94-98D5-4D24-B025-91F297E8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9C53-0C93-4E29-AC19-0072B7B5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F1C37-2CCD-413D-95C6-669BF89A2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A47F4A-E978-422F-AEB9-C73B01B75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46F385-5ADD-4ED8-8356-6E99C479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F2EC1-2619-44F2-AA34-568F784DD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890AD7-9746-46BB-8AF7-60F0446E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38B76-E88B-4F5B-8DDA-6C9F0AA4E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85693-319B-4D84-BD87-6564D0C5A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AEE552-C361-48AE-A21A-60B5750C7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8C3-AA6D-4D4C-B59C-3C7B6090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88A2BD-CC83-458F-BE67-2D4B140D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C7824F-1A07-4C30-BB41-8509862F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5A4A3-5979-4E2D-9F15-91D3A42E2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F0C9EF-F019-4558-AF4B-0BE457F54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8E43E1-D022-4E1D-87D4-E25DE2384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7DAFD8-D6DB-4891-B337-7C8E83F7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C84D11-F7A5-498C-9190-452C7B3E1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182A71-A9D3-4964-A223-C4F8988BE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519725-63EF-482F-9768-A788465A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090B4F-4818-4D7E-ACCE-C9B58FADF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34257-94F6-459E-947D-DF9C84C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E9D9-8D48-42C2-ADC0-BB9A2F6CD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0A7C3-0C63-4A9A-B705-8DFC9962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1DE836-4380-4558-8A85-471F0BFAE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E675E-6535-4DC9-864A-D748BF83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18254-D294-4F93-B5B4-91FADAC3D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1DB66-A981-4F69-A4FF-F5E659A47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BBE77E-BD31-4259-BAE3-9D53D2B7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967A7-87BE-4C2F-8472-D75681E54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5C0FCC-EB1A-4FC4-AA24-231B18A07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1B83A1-8FD9-4821-9724-282C9095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4AF2-CC1E-4AA3-BB2C-47CF33C8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3FDBDC-33EF-4430-BA58-1F743AB7B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CA4C81-DBB5-474C-BA4E-8DB668AD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ED3944-AD99-4AE6-BFA1-D04478E3F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32F32-75F1-4EBD-A1AC-4FB01FB17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83DECA-B32D-4350-A0A6-BB46D204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C3E1FE-4C38-4D36-B3B3-8BD079DA3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F48117-20E4-4D18-9426-51EBB6A0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517CF0-458E-4D5A-B909-F6DA1F650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3B8AD3-99EA-4377-899D-881567C8C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C27A3-A903-41A7-8AAB-2DCB4FF7D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FF7-8ACE-462C-B1CB-71BDF3C9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C8CF9-3833-408D-9AE1-41E43F5B7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34B0CD-43C6-49C9-B0BF-CA9F6D03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40A7B2-CC6E-4C8A-A931-C6E1B286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853F32-F6D9-43C1-B361-B5077AEB8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9E7B98-F378-415E-B5E8-06EF48052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C1CA5-BCAD-4B4B-B1F6-DB3BE5D74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27110-658F-4C85-A29A-F4232575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FFA994-3D78-4B92-AA3B-13F4ED466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247BCB9-3BE6-4912-80D4-F3F3C12C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0F318AC-7013-4F58-B430-57377E9F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937EF-BBAD-4C3A-AED9-BBB772E102F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6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7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A83FB-EA4F-498A-9C5F-4A2F0D906923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C5BDA-BF00-4AF0-BFF7-99A236536D8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6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7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8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9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0F0D7-3B07-42D0-B415-D3598350CB1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6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8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9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9902-FBC6-4C9C-9DBB-49C77E5508A9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FF08D-1C17-478D-BEE7-A307D5D0F39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7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8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9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30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31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4E152-C109-414B-864A-12D2E47D6646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A726-CE07-4DA3-9543-C3430DA07E9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6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7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8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9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30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31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CC1FC-39D0-4C5B-85CB-284068A1D2FD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B36AE-6899-4D19-9129-B368281A844A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DD59-B627-422E-8F7E-F974221DFFDD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8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9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30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31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F0337-CD58-4FBD-A3B5-7510C09B6750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7" name="Содержимое 4" descr="img3.jpg"/>
          <p:cNvPicPr/>
          <p:nvPr/>
        </p:nvPicPr>
        <p:blipFill>
          <a:blip r:embed="rId1"/>
          <a:stretch/>
        </p:blipFill>
        <p:spPr>
          <a:xfrm>
            <a:off x="357120" y="214200"/>
            <a:ext cx="8364600" cy="627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09" name="Picture 2" descr="F:\урок\1616248310.jpeg"/>
          <p:cNvPicPr/>
          <p:nvPr/>
        </p:nvPicPr>
        <p:blipFill>
          <a:blip r:embed="rId1"/>
          <a:stretch/>
        </p:blipFill>
        <p:spPr>
          <a:xfrm>
            <a:off x="642960" y="214200"/>
            <a:ext cx="8072280" cy="628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F:\Photos\3786365390_3f329226fc_o.jpg"/>
          <p:cNvPicPr/>
          <p:nvPr/>
        </p:nvPicPr>
        <p:blipFill>
          <a:blip r:embed="rId1"/>
          <a:stretch/>
        </p:blipFill>
        <p:spPr>
          <a:xfrm>
            <a:off x="214200" y="428760"/>
            <a:ext cx="6107400" cy="408924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3" descr="F:\Photos\mountainash.jpg"/>
          <p:cNvPicPr/>
          <p:nvPr/>
        </p:nvPicPr>
        <p:blipFill>
          <a:blip r:embed="rId2"/>
          <a:stretch/>
        </p:blipFill>
        <p:spPr>
          <a:xfrm>
            <a:off x="5786280" y="3857760"/>
            <a:ext cx="3295800" cy="24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pic>
        <p:nvPicPr>
          <p:cNvPr id="615" name="Picture 2" descr="F:\урок\1616248310.jpeg"/>
          <p:cNvPicPr/>
          <p:nvPr/>
        </p:nvPicPr>
        <p:blipFill>
          <a:blip r:embed="rId1"/>
          <a:stretch/>
        </p:blipFill>
        <p:spPr>
          <a:xfrm>
            <a:off x="642960" y="214200"/>
            <a:ext cx="8072280" cy="6286680"/>
          </a:xfrm>
          <a:prstGeom prst="rect">
            <a:avLst/>
          </a:prstGeom>
          <a:ln w="0">
            <a:noFill/>
          </a:ln>
        </p:spPr>
      </p:pic>
      <p:sp>
        <p:nvSpPr>
          <p:cNvPr id="616" name="Рамка 3"/>
          <p:cNvSpPr/>
          <p:nvPr/>
        </p:nvSpPr>
        <p:spPr>
          <a:xfrm rot="5400000">
            <a:off x="499680" y="2356920"/>
            <a:ext cx="362916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7" name="Рамка 4"/>
          <p:cNvSpPr/>
          <p:nvPr/>
        </p:nvSpPr>
        <p:spPr>
          <a:xfrm>
            <a:off x="4214880" y="3500280"/>
            <a:ext cx="362880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Рамка 6"/>
          <p:cNvSpPr/>
          <p:nvPr/>
        </p:nvSpPr>
        <p:spPr>
          <a:xfrm rot="5400000">
            <a:off x="3642840" y="785520"/>
            <a:ext cx="362880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9" name="Рамка 7"/>
          <p:cNvSpPr/>
          <p:nvPr/>
        </p:nvSpPr>
        <p:spPr>
          <a:xfrm>
            <a:off x="428760" y="1857240"/>
            <a:ext cx="362880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0" name="Рамка 8"/>
          <p:cNvSpPr/>
          <p:nvPr/>
        </p:nvSpPr>
        <p:spPr>
          <a:xfrm>
            <a:off x="2000160" y="0"/>
            <a:ext cx="3629160" cy="2629080"/>
          </a:xfrm>
          <a:prstGeom prst="pie">
            <a:avLst/>
          </a:prstGeom>
          <a:solidFill>
            <a:srgbClr val="d16349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21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1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4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51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дминистратор</dc:creator>
  <dc:description/>
  <dc:language>en-US</dc:language>
  <cp:lastModifiedBy>Администратор</cp:lastModifiedBy>
  <dcterms:modified xsi:type="dcterms:W3CDTF">2020-12-13T13:06:22Z</dcterms:modified>
  <cp:revision>60</cp:revision>
  <dc:subject/>
  <dc:title>Слайд 1</dc:title>
</cp:coreProperties>
</file>